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B0A-6AF8-42F1-96C1-501C6316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848-B487-4A81-9F67-BF5D2ED6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F2A-011F-4F96-B949-91CC74A8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035-709F-4EDE-9555-8800EA70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CF3-37D4-4965-B2D8-219B4121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300-1CE3-4394-8021-E4BCCF0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C83-891F-443A-A300-E69D49E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B6A-ABA0-4319-8B55-8F447DC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51F4-A1BD-4FE6-8F1B-0E4CCF0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AFC5-3D81-4F30-ADF5-8FF39A8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BA4B-72A8-4768-B39F-6AEFC5C3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BE1-B12A-4B00-B294-E135819E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AF7C-EA6E-48C0-A091-3F20E19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F7F9-9D05-4BD5-AAD8-5F5E6D7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142-1F5C-4499-B2AC-6E0B91AB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74A3-8CDD-4198-A1E4-D1ADC177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1A38-A93E-4818-867A-E7536969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EB8D-B467-499D-953C-55FFC65E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CED9-0175-43F7-A46A-454DFEDD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B32A-7291-483F-9C80-FCD369BA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D37E-D01A-460F-906E-0C79931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648D-9B41-422F-BEE8-5187AB7C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834-47A4-4572-B88B-1867FC30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5D1B-E47A-48FB-AF26-61E74C4E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92D1-906C-45CE-B482-957967C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40FB-30E3-448A-9B03-08DD7F5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E921-B8F7-4C19-8F0F-34043A7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7203-B4A2-433B-ACC0-759B212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E5E2-430D-4360-B559-FB2B8CFB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19E7-6A7C-42A3-801F-AF87FA58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14CB-80D5-41E7-A63E-EF1872B3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C421-A29B-4966-A9FA-0F1E087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514D-142B-4E34-85C7-D667A98B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5E8-4484-4761-B37D-4F3ABEA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4C21-787B-49DD-8AE3-C7CEC1D2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2892-04AC-4314-B960-F0FD76D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8ADE-E897-48EA-9E84-B1241348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1F8F-3F0E-4172-95CA-3E480E1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B8B0-00AA-40B9-817A-88455D9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DC54-58FE-48FA-9D4E-E41ABBC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742E-4710-48A0-9B23-D805465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2508F-BFED-4C8B-B937-B81CDAF0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5CF2-8DC1-4EEA-A3B8-AA752216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DE90-E17A-46C1-AAED-954A042C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29C-6E67-47E5-B5F8-266BDBE4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33551-A6D3-46D1-AAA0-E3381D14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B222-88B1-46F9-9C70-A86E442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5402-7990-4D55-9BDC-A7AB5F8E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D9CA-BB3C-482A-A4E3-79764264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D0B5-296C-46A9-A899-FD8E986A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07CA0-22D6-4212-A318-5DAAA8D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2453B-A465-4757-8B54-8C518AF8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5BCC-6633-485B-A723-4BCD2A7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C960-1DCF-4637-8047-23E84ECF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03419-8F0B-4DDC-A819-36020311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603-A0EF-4DE6-9D29-F6DBB0AD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CA93-0713-481D-AFCE-BF72A140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0BE0-DD30-456B-9B5C-0EE62FE4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D502-1462-4EAA-9FE2-FC4F8271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F9E4-011E-4D01-84C0-E46B14FB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F955-B82A-4A29-89D5-41CCAC1D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AC63-5071-46E1-8B10-CAEAE24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6586-38ED-4A57-A7B3-C407754B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3B21-7EF3-4F4C-B118-4B5094C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9542-072A-49D6-9B2B-435F9F76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9607B-6C80-4321-803E-5D777B3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169-1B8A-46C9-A875-501831CB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8286-075D-458B-BF8E-7A89C9A7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7463-0D31-4CE4-A9BB-07348E22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F9239-ACCE-45AB-B327-41A1E06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506B2-F6EF-48F7-B7CE-C1AC038B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3CA7-840E-4F6E-AB5E-2D9E3FA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7EB0A-D553-4450-AB30-8FC6EB91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977A-7F76-47A0-BD8F-8E283E85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9F701-8518-4EF6-8382-E4F47137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001FC-8180-440F-A4FF-62F4FE5F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CDC33-2B08-4847-9F18-C87F9C50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6B3-6774-44D3-9A80-814D2DF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EC14-B72E-4F4B-AC9A-4C46A66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410A-6CCE-4B5B-8E9E-0EF756F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0EE23-C876-41ED-BB2F-2EE9F3BC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66B1E-5F79-40E0-A52F-4797C1E8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77932-B5C7-436A-9C6F-8A2F5A1C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C89A4-997D-44F7-BE45-8D6B38E9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45247-ABD1-409D-B9D7-C7550BAF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D6FA5-A711-47EC-A135-12F9FE9D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58FCB-581A-42C4-884E-48A0F97A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24A6-C9B7-4F71-8EF6-1B5DCE2C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DCE-A9EF-43BD-AF0D-EF888B0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FEF7D-BF15-47CE-926D-A8D6C4FB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0C6CF-C397-499F-B1AA-9B5BDA9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6797F-7861-4687-AF7D-BEC3F5A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D642-6CB3-447B-B7F5-E523BDD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47D22-1234-4E09-AAC9-1DB483E0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F18EC-0267-4BF2-9FAA-EAE1D155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2E82-0D44-4DAA-8220-9E8E8CF7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9AAD-7A7E-46BC-8FAD-ADFB56E8DB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5672-6DAE-47B1-A2A5-7E64B3E8703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CD03-29BC-4D34-BBF2-1FDFC9413B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074-CEF9-4244-AB50-219F33E7F6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CD55-8A88-4B89-9CA9-C689E978BF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3A8B-6562-4BE7-99FC-8255E7FA15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97E3-BF58-4383-A9CE-79BE31CAAA2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2E6D-322E-4911-89F8-2D7CB18846A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ch students di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o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t least 25 books during the summ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Kathy read an equal number of books in each of the 3 summer months, how many books did she read each month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Jacob wanted to read as many books as William, how many more books would he have to rea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total number of books that the 4 students read during the summ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order from greatest number of books read to least number of books read, how should the teacher list student names on a char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20:42:07Z</dcterms:created>
  <dc:creator>127partidak</dc:creator>
  <dc:description/>
  <dc:language>en-US</dc:language>
  <cp:lastModifiedBy>127partidak</cp:lastModifiedBy>
  <dcterms:modified xsi:type="dcterms:W3CDTF">2011-09-02T20:47:14Z</dcterms:modified>
  <cp:revision>1</cp:revision>
  <dc:subject/>
  <dc:title>Monday</dc:title>
</cp:coreProperties>
</file>